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jpeg" ContentType="image/jpeg"/>
  <Override PartName="/ppt/media/image5.jpeg" ContentType="image/jpeg"/>
  <Override PartName="/ppt/media/image11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12.jpeg" ContentType="image/jpeg"/>
  <Override PartName="/ppt/media/image28.png" ContentType="image/png"/>
  <Override PartName="/ppt/media/image8.jpeg" ContentType="image/jpeg"/>
  <Override PartName="/ppt/media/image13.wmf" ContentType="image/x-wmf"/>
  <Override PartName="/ppt/media/image30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7F7F-8608-484A-B54F-755043F3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97F-0D88-4238-B276-8FE993E5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D2F7-CAA8-42F0-BC1D-9AED5FC1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49CC-BFC0-4D1C-828D-70657A22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C8E0-4B81-40FE-870F-84BF266A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6E74-1207-40CF-858F-0A788D4D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3CA8-9A2B-4CF7-A678-B223C1E9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D0B0-32E7-4C67-8C2D-CC742CAF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C70B-937C-497E-9F17-9D8A4342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9D35-0DF7-4817-B317-7FC23564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7FDB-0E56-4AC7-9EF3-90223691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F2E-5C33-4818-B4CE-5650AFE8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630E-9ECE-4F0A-9AC6-B3A9FB59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F093-06BA-448D-9142-91283DAC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6F78-58D9-4815-935F-69782A03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9611-B4FA-4555-8068-D4E9AB32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66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872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949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66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872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527F-DAF9-42EC-AFC5-C4DC52FB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91D-B62A-433B-ACF4-853D0F40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B07-9427-48E7-99A7-340D8926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C91-CA87-4AF5-AA2A-6C89C875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457200"/>
            <a:ext cx="716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115-AA60-4D77-87CA-B325077E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AB6-0F8F-4FAD-9E67-6B5000C0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48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A97-AFF2-4654-9901-6CAA7354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48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962-8DB7-454E-B7FF-8C691DC6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949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7FE8-384F-41A3-A635-5A5AF4D6979F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A1E1-38F6-470A-9A76-DF7F4052CA26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hyperlink" Target="http://www.animatedscience.com.au/learningmodules/collision.swf" TargetMode="External"/><Relationship Id="rId4" Type="http://schemas.openxmlformats.org/officeDocument/2006/relationships/hyperlink" Target="http://www.animatedscience.com.au/learningmodules/collision.swf" TargetMode="External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293"/>
                </a:solidFill>
                <a:latin typeface="Bradley Hand ITC"/>
              </a:rPr>
              <a:t>Rates of Reaction</a:t>
            </a:r>
            <a:endParaRPr b="0" lang="en-US" sz="5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5998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Bradley Hand ITC"/>
              </a:rPr>
              <a:t>Adrian, Fraser, Roderick, Emma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Bradley Hand ITC"/>
              </a:rPr>
              <a:t>Temperature: Actual Affects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58920" y="1557360"/>
            <a:ext cx="74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en the temperature of a substance rises, the particles gain energ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ith more energy, the particles move fas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y then collide with the other substance at an increased ra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ss time for the reaction to occu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227484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Sources of Error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5077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orded values could be ou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act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to tell the tablet had completely dissolv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04000" y="3789360"/>
            <a:ext cx="156996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804000" y="2060640"/>
            <a:ext cx="157788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4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Modifications for the Future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76360" y="2060640"/>
            <a:ext cx="3781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 more accurate result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duct the 3 trials at o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d more temperatures to tes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00720" y="4076640"/>
            <a:ext cx="2425680" cy="254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32720" y="1557360"/>
            <a:ext cx="1417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Temperature: Conclusion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76160"/>
            <a:ext cx="784872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mperature directly affects the rate of reactio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emperature =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particle movement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ticle movement =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llis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lision =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ate of reac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pposite occurs for a decrease in tempera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278136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fd293"/>
                </a:solidFill>
                <a:latin typeface="Bradley Hand ITC"/>
              </a:rPr>
              <a:t>CONCENTRATION</a:t>
            </a:r>
            <a:endParaRPr b="0" lang="en-US" sz="72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Concentration Experi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971800" y="1371600"/>
          <a:ext cx="3971880" cy="3952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371600"/>
                    <a:ext cx="397188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47920" y="54860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article Collision theory: explains how reactions occur, and why there are different rates of reactions based on differences of characteristic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Concentration Experiment</a:t>
            </a:r>
            <a:br>
              <a:rPr sz="4800"/>
            </a:b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Concentration: the amount of a given solute in a solution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Concentration = number of moles / Volume of solution (L)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Unit = mol / L or M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 Narrow"/>
              </a:rPr>
              <a:t>Can also be calculated in Volume / Volume percentage. (Volume of solute / Volume of Solution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Procedur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4479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Part A: </a:t>
            </a:r>
            <a:br>
              <a:rPr sz="2800"/>
            </a:br>
            <a:r>
              <a:rPr b="1" lang="en-CA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1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T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ablespoon of baking sod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in beaker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2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M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ix together 10 mL of vinegar with 5 drops of water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3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our the vinegar/water mixture into baking soda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4) Observe and record 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Procedur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4479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Part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B</a:t>
            </a:r>
            <a:r>
              <a:rPr b="1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: </a:t>
            </a:r>
            <a:br>
              <a:rPr sz="2800"/>
            </a:br>
            <a:r>
              <a:rPr b="1" lang="en-CA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lace a tablespoon of baking sod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in beaker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2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M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ix together 5 mL of water with 5mL of vinegar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3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our the vinegar/water mixture into baking soda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4) Observe and record 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294920" y="14479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Part C: </a:t>
            </a:r>
            <a:br>
              <a:rPr sz="2800"/>
            </a:br>
            <a:r>
              <a:rPr b="1" lang="en-CA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1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lace a tablespoon of baking sod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 in beaker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2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M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ix together 10 mL of water and 5 drops of vinegar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3)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P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our the vinegar/water mixture into the  baking soda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  <a:ea typeface="Arial"/>
              </a:rPr>
              <a:t>4) Observe and recor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Procedur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Introduction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8560" y="191628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efi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1) Re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Indications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2) Rate of Re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fluencing factors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Concentration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Temperatur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-Catalys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067280" y="2205000"/>
            <a:ext cx="48592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Observa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reaction that took place was seen like the one shown below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76720" y="32767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Bradley Hand ITC"/>
              </a:rPr>
              <a:t>Observa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66680" y="1219320"/>
            <a:ext cx="7696080" cy="5486400"/>
            <a:chOff x="1066680" y="1219320"/>
            <a:chExt cx="7696080" cy="5486400"/>
          </a:xfrm>
        </p:grpSpPr>
        <p:grpSp>
          <p:nvGrpSpPr>
            <p:cNvPr id="136" name=""/>
            <p:cNvGrpSpPr/>
            <p:nvPr/>
          </p:nvGrpSpPr>
          <p:grpSpPr>
            <a:xfrm>
              <a:off x="1070640" y="1221840"/>
              <a:ext cx="7687800" cy="5481000"/>
              <a:chOff x="1070640" y="1221840"/>
              <a:chExt cx="7687800" cy="548100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070640" y="1221840"/>
                <a:ext cx="2048400" cy="1255320"/>
                <a:chOff x="1070640" y="1221840"/>
                <a:chExt cx="2048400" cy="12553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070640" y="1221840"/>
                  <a:ext cx="2048400" cy="12553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39" name=""/>
                <p:cNvGrpSpPr/>
                <p:nvPr/>
              </p:nvGrpSpPr>
              <p:grpSpPr>
                <a:xfrm>
                  <a:off x="1070640" y="1221840"/>
                  <a:ext cx="2048040" cy="1255320"/>
                  <a:chOff x="1070640" y="1221840"/>
                  <a:chExt cx="2048040" cy="125532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1155600" y="1221840"/>
                    <a:ext cx="1878120" cy="125532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Vinegar vs Wat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1070640" y="1221840"/>
                    <a:ext cx="2048040" cy="12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" name=""/>
              <p:cNvGrpSpPr/>
              <p:nvPr/>
            </p:nvGrpSpPr>
            <p:grpSpPr>
              <a:xfrm>
                <a:off x="3119400" y="1221840"/>
                <a:ext cx="1793520" cy="1255320"/>
                <a:chOff x="3119400" y="1221840"/>
                <a:chExt cx="1793520" cy="125532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119400" y="1221840"/>
                  <a:ext cx="1793520" cy="12553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"/>
                <p:cNvGrpSpPr/>
                <p:nvPr/>
              </p:nvGrpSpPr>
              <p:grpSpPr>
                <a:xfrm>
                  <a:off x="3119400" y="1221840"/>
                  <a:ext cx="1793160" cy="1255320"/>
                  <a:chOff x="3119400" y="1221840"/>
                  <a:chExt cx="1793160" cy="125532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>
                    <a:off x="3204360" y="1221840"/>
                    <a:ext cx="1622880" cy="125532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olarity (mol/L)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119400" y="1221840"/>
                    <a:ext cx="1793160" cy="12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"/>
              <p:cNvGrpSpPr/>
              <p:nvPr/>
            </p:nvGrpSpPr>
            <p:grpSpPr>
              <a:xfrm>
                <a:off x="4913640" y="1221840"/>
                <a:ext cx="1922040" cy="1255320"/>
                <a:chOff x="4913640" y="1221840"/>
                <a:chExt cx="1922040" cy="12553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913640" y="1221840"/>
                  <a:ext cx="1922040" cy="12553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4913640" y="1221840"/>
                  <a:ext cx="1921680" cy="1255320"/>
                  <a:chOff x="4913640" y="1221840"/>
                  <a:chExt cx="1921680" cy="125532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4998600" y="1221840"/>
                    <a:ext cx="1751760" cy="125532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ime (seconds)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913640" y="1221840"/>
                    <a:ext cx="1921680" cy="12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" name=""/>
              <p:cNvGrpSpPr/>
              <p:nvPr/>
            </p:nvGrpSpPr>
            <p:grpSpPr>
              <a:xfrm>
                <a:off x="6836040" y="1221840"/>
                <a:ext cx="1922400" cy="1255320"/>
                <a:chOff x="6836040" y="1221840"/>
                <a:chExt cx="1922400" cy="12553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6836040" y="1221840"/>
                  <a:ext cx="1922400" cy="12553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54" name=""/>
                <p:cNvGrpSpPr/>
                <p:nvPr/>
              </p:nvGrpSpPr>
              <p:grpSpPr>
                <a:xfrm>
                  <a:off x="6836040" y="1221840"/>
                  <a:ext cx="1922040" cy="1255320"/>
                  <a:chOff x="6836040" y="1221840"/>
                  <a:chExt cx="1922040" cy="125532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6921000" y="1221840"/>
                    <a:ext cx="1751760" cy="125532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Qualitative Observations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6836040" y="1221840"/>
                    <a:ext cx="1922040" cy="1255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" name=""/>
              <p:cNvGrpSpPr/>
              <p:nvPr/>
            </p:nvGrpSpPr>
            <p:grpSpPr>
              <a:xfrm>
                <a:off x="1070640" y="2477160"/>
                <a:ext cx="2048400" cy="1408320"/>
                <a:chOff x="1070640" y="2477160"/>
                <a:chExt cx="2048400" cy="140832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70640" y="2477160"/>
                  <a:ext cx="204840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59" name=""/>
                <p:cNvGrpSpPr/>
                <p:nvPr/>
              </p:nvGrpSpPr>
              <p:grpSpPr>
                <a:xfrm>
                  <a:off x="1070640" y="2477160"/>
                  <a:ext cx="2048040" cy="1408320"/>
                  <a:chOff x="1070640" y="2477160"/>
                  <a:chExt cx="2048040" cy="1408320"/>
                </a:xfrm>
              </p:grpSpPr>
              <p:sp>
                <p:nvSpPr>
                  <p:cNvPr id="160" name=""/>
                  <p:cNvSpPr/>
                  <p:nvPr/>
                </p:nvSpPr>
                <p:spPr>
                  <a:xfrm>
                    <a:off x="1155600" y="2477160"/>
                    <a:ext cx="187812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High Concentration 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200"/>
                    </a:b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 mL vinegar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 drops of wat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070640" y="2477160"/>
                    <a:ext cx="204804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" name=""/>
              <p:cNvGrpSpPr/>
              <p:nvPr/>
            </p:nvGrpSpPr>
            <p:grpSpPr>
              <a:xfrm>
                <a:off x="3119400" y="2477160"/>
                <a:ext cx="1793520" cy="1408320"/>
                <a:chOff x="3119400" y="2477160"/>
                <a:chExt cx="1793520" cy="1408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119400" y="2477160"/>
                  <a:ext cx="179352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64" name=""/>
                <p:cNvGrpSpPr/>
                <p:nvPr/>
              </p:nvGrpSpPr>
              <p:grpSpPr>
                <a:xfrm>
                  <a:off x="3119400" y="2477160"/>
                  <a:ext cx="1793160" cy="1408320"/>
                  <a:chOff x="3119400" y="2477160"/>
                  <a:chExt cx="1793160" cy="140832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>
                    <a:off x="3204360" y="2477160"/>
                    <a:ext cx="162288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.853 M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119400" y="2477160"/>
                    <a:ext cx="179316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7" name=""/>
              <p:cNvGrpSpPr/>
              <p:nvPr/>
            </p:nvGrpSpPr>
            <p:grpSpPr>
              <a:xfrm>
                <a:off x="4913640" y="2477160"/>
                <a:ext cx="1922040" cy="1408320"/>
                <a:chOff x="4913640" y="2477160"/>
                <a:chExt cx="1922040" cy="14083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913640" y="2477160"/>
                  <a:ext cx="192204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4913640" y="2477160"/>
                  <a:ext cx="1921680" cy="1408320"/>
                  <a:chOff x="4913640" y="2477160"/>
                  <a:chExt cx="1921680" cy="140832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4998600" y="2477160"/>
                    <a:ext cx="175176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5.7</a:t>
                    </a:r>
                    <a:endParaRPr b="0" lang="en-US" sz="12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4913640" y="2477160"/>
                    <a:ext cx="192168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" name=""/>
              <p:cNvGrpSpPr/>
              <p:nvPr/>
            </p:nvGrpSpPr>
            <p:grpSpPr>
              <a:xfrm>
                <a:off x="6836040" y="2477160"/>
                <a:ext cx="1922400" cy="1408320"/>
                <a:chOff x="6836040" y="2477160"/>
                <a:chExt cx="1922400" cy="14083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836040" y="2477160"/>
                  <a:ext cx="192240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6836040" y="2477160"/>
                  <a:ext cx="1922040" cy="1408320"/>
                  <a:chOff x="6836040" y="2477160"/>
                  <a:chExt cx="1922040" cy="140832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921000" y="2477160"/>
                    <a:ext cx="175176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ubbles Formed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Fizzing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No baking soda leftov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836040" y="2477160"/>
                    <a:ext cx="192204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1070640" y="3885840"/>
                <a:ext cx="2048400" cy="1408320"/>
                <a:chOff x="1070640" y="3885840"/>
                <a:chExt cx="2048400" cy="14083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070640" y="3885840"/>
                  <a:ext cx="204840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1070640" y="3885840"/>
                  <a:ext cx="2048040" cy="1408320"/>
                  <a:chOff x="1070640" y="3885840"/>
                  <a:chExt cx="2048040" cy="140832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1155600" y="3885840"/>
                    <a:ext cx="187812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edium Concentration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 mL vinegar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 mL wat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070640" y="3885840"/>
                    <a:ext cx="204804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3119400" y="3885840"/>
                <a:ext cx="1793520" cy="1408320"/>
                <a:chOff x="3119400" y="3885840"/>
                <a:chExt cx="1793520" cy="14083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119400" y="3885840"/>
                  <a:ext cx="179352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3119400" y="3885840"/>
                  <a:ext cx="1793160" cy="1408320"/>
                  <a:chOff x="3119400" y="3885840"/>
                  <a:chExt cx="1793160" cy="140832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204360" y="3885840"/>
                    <a:ext cx="162288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.4375 M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119400" y="3885840"/>
                    <a:ext cx="179316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7" name=""/>
              <p:cNvGrpSpPr/>
              <p:nvPr/>
            </p:nvGrpSpPr>
            <p:grpSpPr>
              <a:xfrm>
                <a:off x="4913640" y="3885840"/>
                <a:ext cx="1922040" cy="1408320"/>
                <a:chOff x="4913640" y="3885840"/>
                <a:chExt cx="1922040" cy="140832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4913640" y="3885840"/>
                  <a:ext cx="192204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"/>
                <p:cNvGrpSpPr/>
                <p:nvPr/>
              </p:nvGrpSpPr>
              <p:grpSpPr>
                <a:xfrm>
                  <a:off x="4913640" y="3885840"/>
                  <a:ext cx="1921680" cy="1408320"/>
                  <a:chOff x="4913640" y="3885840"/>
                  <a:chExt cx="1921680" cy="14083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4998600" y="3885840"/>
                    <a:ext cx="175176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20.95</a:t>
                    </a:r>
                    <a:endParaRPr b="0" lang="en-US" sz="12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4913640" y="3885840"/>
                    <a:ext cx="192168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2" name=""/>
              <p:cNvGrpSpPr/>
              <p:nvPr/>
            </p:nvGrpSpPr>
            <p:grpSpPr>
              <a:xfrm>
                <a:off x="6836040" y="3885840"/>
                <a:ext cx="1922400" cy="1408320"/>
                <a:chOff x="6836040" y="3885840"/>
                <a:chExt cx="1922400" cy="1408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836040" y="3885840"/>
                  <a:ext cx="192240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94" name=""/>
                <p:cNvGrpSpPr/>
                <p:nvPr/>
              </p:nvGrpSpPr>
              <p:grpSpPr>
                <a:xfrm>
                  <a:off x="6836040" y="3885840"/>
                  <a:ext cx="1922040" cy="1408320"/>
                  <a:chOff x="6836040" y="3885840"/>
                  <a:chExt cx="1922040" cy="14083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>
                    <a:off x="6921000" y="3885840"/>
                    <a:ext cx="175176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ess bubbles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ess fizzing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ome baking soda leftov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836040" y="3885840"/>
                    <a:ext cx="192204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" name=""/>
              <p:cNvGrpSpPr/>
              <p:nvPr/>
            </p:nvGrpSpPr>
            <p:grpSpPr>
              <a:xfrm>
                <a:off x="1070640" y="5294520"/>
                <a:ext cx="2048400" cy="1408320"/>
                <a:chOff x="1070640" y="5294520"/>
                <a:chExt cx="2048400" cy="14083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070640" y="5294520"/>
                  <a:ext cx="204840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1070640" y="5294520"/>
                  <a:ext cx="2048040" cy="1408320"/>
                  <a:chOff x="1070640" y="5294520"/>
                  <a:chExt cx="2048040" cy="140832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155600" y="5294520"/>
                    <a:ext cx="187812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ow Concentration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 drops of vinegar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 mL wat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070640" y="5294520"/>
                    <a:ext cx="204804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" name=""/>
              <p:cNvGrpSpPr/>
              <p:nvPr/>
            </p:nvGrpSpPr>
            <p:grpSpPr>
              <a:xfrm>
                <a:off x="3119400" y="5294520"/>
                <a:ext cx="1793520" cy="1408320"/>
                <a:chOff x="3119400" y="5294520"/>
                <a:chExt cx="1793520" cy="14083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119400" y="5294520"/>
                  <a:ext cx="179352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3119400" y="5294520"/>
                  <a:ext cx="1793160" cy="1408320"/>
                  <a:chOff x="3119400" y="5294520"/>
                  <a:chExt cx="1793160" cy="140832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3204360" y="5294520"/>
                    <a:ext cx="162288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.0213 M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119400" y="5294520"/>
                    <a:ext cx="179316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" name=""/>
              <p:cNvGrpSpPr/>
              <p:nvPr/>
            </p:nvGrpSpPr>
            <p:grpSpPr>
              <a:xfrm>
                <a:off x="4913640" y="5294520"/>
                <a:ext cx="1922040" cy="1408320"/>
                <a:chOff x="4913640" y="5294520"/>
                <a:chExt cx="1922040" cy="14083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913640" y="5294520"/>
                  <a:ext cx="192204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4913640" y="5294520"/>
                  <a:ext cx="1921680" cy="1408320"/>
                  <a:chOff x="4913640" y="5294520"/>
                  <a:chExt cx="1921680" cy="140832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4998600" y="5294520"/>
                    <a:ext cx="175176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23.66</a:t>
                    </a:r>
                    <a:endParaRPr b="0" lang="en-US" sz="12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4913640" y="5294520"/>
                    <a:ext cx="192168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2" name=""/>
              <p:cNvGrpSpPr/>
              <p:nvPr/>
            </p:nvGrpSpPr>
            <p:grpSpPr>
              <a:xfrm>
                <a:off x="6836040" y="5294520"/>
                <a:ext cx="1922400" cy="1408320"/>
                <a:chOff x="6836040" y="5294520"/>
                <a:chExt cx="1922400" cy="140832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6836040" y="5294520"/>
                  <a:ext cx="1922400" cy="14083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6836040" y="5294520"/>
                  <a:ext cx="1922040" cy="1408320"/>
                  <a:chOff x="6836040" y="5294520"/>
                  <a:chExt cx="1922040" cy="140832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>
                    <a:off x="6921000" y="5294520"/>
                    <a:ext cx="1751760" cy="140832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ven less bubbles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ven less fizzing </a:t>
                    </a:r>
                    <a:br>
                      <a:rPr sz="1200"/>
                    </a:br>
                    <a:br>
                      <a:rPr sz="1200"/>
                    </a:b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ore baking soda leftover</a:t>
                    </a: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836040" y="5294520"/>
                    <a:ext cx="1922040" cy="1408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7" name=""/>
            <p:cNvSpPr/>
            <p:nvPr/>
          </p:nvSpPr>
          <p:spPr>
            <a:xfrm>
              <a:off x="1066680" y="1219320"/>
              <a:ext cx="7696080" cy="54864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Sources of error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ime recorded not exa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to see whether reaction comple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mpurities could have resulted in differences in rea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How concentration affects rate of reac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er concentration = more particles of reactants availa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ore particles = higher frequenc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igher frequency = faster rate of rea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ncentration is in direct relation to Rate of rea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191120" y="4267080"/>
          <a:ext cx="1601640" cy="214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267080"/>
                    <a:ext cx="160164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Concentration affecting rate of reac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6615000" cy="2205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371600" y="4800600"/>
            <a:ext cx="731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imulation of Concentration affecting the rate of reaction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ff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CA" sz="1800" spc="-1" strike="noStrike" u="sng">
                <a:solidFill>
                  <a:srgbClr val="ffff99"/>
                </a:solidFill>
                <a:uFillTx/>
                <a:latin typeface="Arial"/>
                <a:hlinkClick r:id="rId4"/>
              </a:rPr>
              <a:t>www.animatedscience.com.au/learningmodules/collision.swf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Modifications to Experiment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un all three tests at the sam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lows for better comparis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tri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ore tests were conducted = accurate tren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200400" y="4343400"/>
            <a:ext cx="27241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Conclus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centration in direct relation to Rate of rea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gher concentration allows more collis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wer concentration limits collis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Application of Concentra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eaning deterge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centrated soluble soaps such as laundry soap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733920" y="3200400"/>
            <a:ext cx="21272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24000" y="2708280"/>
            <a:ext cx="612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fd293"/>
                </a:solidFill>
                <a:latin typeface="Bradley Hand ITC"/>
              </a:rPr>
              <a:t>CATALYSTS</a:t>
            </a:r>
            <a:endParaRPr b="0" lang="en-US" sz="72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Experiment: Catalyst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cc"/>
                </a:solidFill>
                <a:latin typeface="Arial"/>
              </a:rPr>
              <a:t>Define Catalyst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changes the minimum energy needed for a reaction to occu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 not consumed by the re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708360" y="4149720"/>
            <a:ext cx="22096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4097160" cy="2197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Objective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Determine how concentration, temperature and catalysts affect the rate of rea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38196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Catalyst in Our Experiment</a:t>
            </a:r>
            <a:r>
              <a:rPr b="0" lang="en-US" sz="4000" spc="-1" strike="noStrike">
                <a:solidFill>
                  <a:srgbClr val="dfd293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85560" y="164268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omposition of Hydrogen Peroxid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2 H2O2 (aq) + MgO2 (s) → O2(g) + 2 H2O(l) + MgO2 (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Hydrogen peroxide                 Manganese dioxid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1" name="Picture 5" descr="Manganese-dioxide-sample.jpg"/>
          <p:cNvPicPr/>
          <p:nvPr/>
        </p:nvPicPr>
        <p:blipFill>
          <a:blip r:embed="rId2"/>
          <a:stretch/>
        </p:blipFill>
        <p:spPr>
          <a:xfrm>
            <a:off x="5000760" y="3357720"/>
            <a:ext cx="2500200" cy="1874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180px-Hydrogen_peroxide.png"/>
          <p:cNvPicPr/>
          <p:nvPr/>
        </p:nvPicPr>
        <p:blipFill>
          <a:blip r:embed="rId3"/>
          <a:stretch/>
        </p:blipFill>
        <p:spPr>
          <a:xfrm>
            <a:off x="1714680" y="3357720"/>
            <a:ext cx="2000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Procedure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932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t 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ydrogen Peroxide in test tub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lace balloon on top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t B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ydrogen Peroxide and Manganese Dioxide in test tub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lace balloon on top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Picture 5" descr="Test_Tube.jpg"/>
          <p:cNvPicPr/>
          <p:nvPr/>
        </p:nvPicPr>
        <p:blipFill>
          <a:blip r:embed="rId2"/>
          <a:stretch/>
        </p:blipFill>
        <p:spPr>
          <a:xfrm>
            <a:off x="6072120" y="128592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53358.jpg"/>
          <p:cNvPicPr/>
          <p:nvPr/>
        </p:nvPicPr>
        <p:blipFill>
          <a:blip r:embed="rId3"/>
          <a:stretch/>
        </p:blipFill>
        <p:spPr>
          <a:xfrm>
            <a:off x="6516720" y="4292640"/>
            <a:ext cx="18432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Observa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85920" y="1500120"/>
          <a:ext cx="7162920" cy="4686480"/>
        </p:xfrm>
        <a:graphic>
          <a:graphicData uri="http://schemas.openxmlformats.org/drawingml/2006/table">
            <a:tbl>
              <a:tblPr/>
              <a:tblGrid>
                <a:gridCol w="1790640"/>
                <a:gridCol w="1352520"/>
                <a:gridCol w="1928880"/>
                <a:gridCol w="2090880"/>
              </a:tblGrid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Presence of catalyst 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Time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Inflation of balloon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General observations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6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No catalyst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(5 ml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Hydrogen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Peroxide)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30 sec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None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Nothing happened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1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Catalyst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Manganese dioxide with 5 ml hydrogen peroxide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5 sec 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10 sec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3f15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Slight inflation of balloon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3f15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Production of heat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3f15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Balloon went upright, inflated slightly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3f15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3f1500"/>
                          </a:solidFill>
                          <a:latin typeface="Arial"/>
                        </a:rPr>
                        <a:t>Test tube got hot</a:t>
                      </a:r>
                      <a:endParaRPr b="0" lang="en-US" sz="2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Error and Modification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58560" y="141300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xygen gas could have escap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aminant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exact quantities us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asure size of inflation (diameter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1" name="Picture 5" descr="analy-digital.jpg"/>
          <p:cNvPicPr/>
          <p:nvPr/>
        </p:nvPicPr>
        <p:blipFill>
          <a:blip r:embed="rId2"/>
          <a:stretch/>
        </p:blipFill>
        <p:spPr>
          <a:xfrm>
            <a:off x="1857240" y="4643280"/>
            <a:ext cx="1498680" cy="1990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BF1RMKCARAK02XCAM7G5FTCA1VMZM7CA4MZ4IVCAUZCZE3CASX638TCAQ0AXRMCAIEXGS3CAJC07QQCA1PD9GPCAGN526LCATN88ZECASASNELCA2KVT37CA8Z742VCAFJBIYLCAS37XF7CA9I9LLPCAT825G8.jpg"/>
          <p:cNvPicPr/>
          <p:nvPr/>
        </p:nvPicPr>
        <p:blipFill>
          <a:blip r:embed="rId3"/>
          <a:stretch/>
        </p:blipFill>
        <p:spPr>
          <a:xfrm>
            <a:off x="4714920" y="5000760"/>
            <a:ext cx="178596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6" descr="RED_BALLO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1500"/>
                </a:solidFill>
                <a:latin typeface="Bradley Hand ITC"/>
              </a:rPr>
              <a:t>Conclus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f1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1500"/>
                </a:solidFill>
                <a:latin typeface="Arial"/>
              </a:rPr>
              <a:t>By itself, the decomposition of hydrogen peroxide into water and oxygen is slo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f1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1500"/>
                </a:solidFill>
                <a:latin typeface="Arial"/>
              </a:rPr>
              <a:t>Manganese dioxide allows this decomposition to take place rapid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f1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1500"/>
                </a:solidFill>
                <a:latin typeface="Arial"/>
              </a:rPr>
              <a:t>The oxygen produced inflated the balloon on the test tube</a:t>
            </a:r>
            <a:r>
              <a:rPr b="0" lang="en-US" sz="3200" spc="-1" strike="noStrike">
                <a:solidFill>
                  <a:srgbClr val="3f15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" sz="2000" spc="-1" strike="noStrike">
                <a:solidFill>
                  <a:srgbClr val="000000"/>
                </a:solidFill>
                <a:latin typeface="Arial"/>
              </a:rPr>
              <a:t>2 H2O2 (aq) + MgO2 (s) → O2(g) + 2 H2O(l) + MgO2 (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Applications of Catalysts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58920" y="1628640"/>
            <a:ext cx="4068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hemical Industry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more $$ if they make products faster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x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Manufacturers of Nitric Acid use catalyst: Platinum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Very expensive metal, but only need small quantity which can be reused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Estimate: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90% all commercially produced chemical products involve catalysts at some stage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52520" y="1676520"/>
            <a:ext cx="3505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Other: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Energy Processing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Bulk/Fine Chemicals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-Food Processing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9" name="" descr="16.gif"/>
          <p:cNvPicPr/>
          <p:nvPr/>
        </p:nvPicPr>
        <p:blipFill>
          <a:blip r:embed="rId2"/>
          <a:stretch/>
        </p:blipFill>
        <p:spPr>
          <a:xfrm>
            <a:off x="5508720" y="1557360"/>
            <a:ext cx="2133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Bradley Hand ITC"/>
              </a:rPr>
              <a:t>Rate of Reaction: </a:t>
            </a:r>
            <a:br>
              <a:rPr sz="4400"/>
            </a:br>
            <a:r>
              <a:rPr b="1" lang="en-US" sz="4400" spc="-1" strike="noStrike">
                <a:solidFill>
                  <a:srgbClr val="dfd293"/>
                </a:solidFill>
                <a:latin typeface="Bradley Hand ITC"/>
              </a:rPr>
              <a:t>Overall Conclusion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5724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cc"/>
                </a:solidFill>
                <a:latin typeface="Arial"/>
              </a:rPr>
              <a:t>It was shown form the three experiments that temperature, concentration and the presence of catalysts, affect the rate of reaction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cc"/>
                </a:solidFill>
                <a:latin typeface="Arial"/>
              </a:rPr>
              <a:t>Concentration and Temperatu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-the higher the concentration or temperature, the faster the reaction takes plac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cc"/>
                </a:solidFill>
                <a:latin typeface="Arial"/>
              </a:rPr>
              <a:t>Catalys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-the presence of positive catalysts, such as Manganese Dioxide, speeds the rate of</a:t>
            </a:r>
            <a:r>
              <a:rPr b="0" lang="en-CA" sz="2000" spc="-1" strike="noStrike">
                <a:solidFill>
                  <a:srgbClr val="7e2a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588000" y="1989000"/>
            <a:ext cx="2413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Further research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58560" y="2491920"/>
            <a:ext cx="46450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Conduct more experime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-Surface Are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-Pressu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-Negative catalys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-other facto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796000" y="1557360"/>
            <a:ext cx="2921040" cy="19018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5508720" y="4005360"/>
            <a:ext cx="33843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11640" y="836640"/>
            <a:ext cx="4681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e2a00"/>
                </a:solidFill>
                <a:latin typeface="Bradley Hand ITC"/>
              </a:rPr>
              <a:t>Questions?</a:t>
            </a:r>
            <a:endParaRPr b="0" lang="en-US" sz="72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476360" y="1125360"/>
            <a:ext cx="712800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cc"/>
                </a:solidFill>
                <a:uFillTx/>
                <a:latin typeface="Arial"/>
              </a:rPr>
              <a:t>No Questions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erfect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Now we have some questions for you</a:t>
            </a: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042920" y="1341360"/>
          <a:ext cx="7885080" cy="5359320"/>
        </p:xfrm>
        <a:graphic>
          <a:graphicData uri="http://schemas.openxmlformats.org/drawingml/2006/table">
            <a:tbl>
              <a:tblPr/>
              <a:tblGrid>
                <a:gridCol w="1727280"/>
                <a:gridCol w="2430360"/>
                <a:gridCol w="2054160"/>
                <a:gridCol w="16732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eriment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ls: Chemical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ls: Equipment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als: Safety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e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Alka-Seltzer Tablet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t, cold and room temperature water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5c1f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beaker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5c1f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ing cup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5c1f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ometer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5c1f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watch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Safety goggle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4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ntratio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negar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king soda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 beaker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pper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ing cup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suring spoon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watch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irring rod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Safety goggle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4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-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ganese Dioxid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gen Peroxid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test tube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balloons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pwatch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Safety goggles 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Materials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8316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is the definition of a reactio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619280" y="1413000"/>
            <a:ext cx="8316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ummarize the temperature experiment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03280" y="2349360"/>
            <a:ext cx="75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hat is the reason behind the rate of reaction changing with Temperature and Concentration?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47280" y="2781360"/>
            <a:ext cx="7162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is a catalyst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15640" y="2636640"/>
            <a:ext cx="788508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0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was the catalyst used in the decomposition of hydrogen peroxide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618920" y="2852640"/>
            <a:ext cx="71629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Name 3 other factors that affect the rate of reaction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457200"/>
            <a:ext cx="8136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 </a:t>
            </a:r>
            <a:r>
              <a:rPr b="1" lang="en-US" sz="4000" spc="-1" strike="noStrike">
                <a:solidFill>
                  <a:srgbClr val="dfd293"/>
                </a:solidFill>
                <a:latin typeface="Bradley Hand ITC"/>
              </a:rPr>
              <a:t>This now concludes our Presentation</a:t>
            </a:r>
            <a:endParaRPr b="0" lang="en-US" sz="40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356000" y="6237360"/>
            <a:ext cx="4680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By: Adrian, Emma, Fraser and Roderic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Safety Precautions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5977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Wear safety goggles at all tim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Long hair tied bac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Wash hands before and after each experimen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Third Experiment: Catalys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Chemicals used are explosiv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No open flam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77080" y="4221000"/>
            <a:ext cx="1871640" cy="1872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800360" cy="15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256536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fd293"/>
                </a:solidFill>
                <a:latin typeface="Bradley Hand ITC"/>
              </a:rPr>
              <a:t>TEMPERATURE</a:t>
            </a:r>
            <a:endParaRPr b="0" lang="en-US" sz="72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Experiment: Temperature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429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w does Temperature affect the rate of reaction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ka-Seltzer tablets in different temperatures of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651640" y="2565360"/>
            <a:ext cx="331776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Temperature: Procedure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lace 250 mL of water into a beak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cord the temperat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tly place the tablet into the beak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cord the time taken to dissol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peat for hot and cold wat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476280"/>
            <a:ext cx="7162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293"/>
                </a:solidFill>
                <a:latin typeface="Bradley Hand ITC"/>
              </a:rPr>
              <a:t>Temperature: Observations</a:t>
            </a:r>
            <a:endParaRPr b="0" lang="en-US" sz="4800" spc="-1" strike="noStrike">
              <a:solidFill>
                <a:srgbClr val="dfd293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332000" y="1557360"/>
          <a:ext cx="7561080" cy="4297320"/>
        </p:xfrm>
        <a:graphic>
          <a:graphicData uri="http://schemas.openxmlformats.org/drawingml/2006/table">
            <a:tbl>
              <a:tblPr/>
              <a:tblGrid>
                <a:gridCol w="2374920"/>
                <a:gridCol w="2160360"/>
                <a:gridCol w="3025800"/>
              </a:tblGrid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type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act temp)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to be dissolved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Observations</a:t>
                      </a:r>
                      <a:endParaRPr b="0" lang="en-US" sz="2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13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34 second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Large bubbl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Loud fizzing soun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m Temp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.24 second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any bubbl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ofter fizzing soun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.52 second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mall bubbles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Soft fizzing sound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1:37:31Z</dcterms:created>
  <dc:creator> Adrian</dc:creator>
  <dc:description/>
  <cp:keywords/>
  <dc:language>en-US</dc:language>
  <cp:lastModifiedBy>Beth Hennings</cp:lastModifiedBy>
  <dcterms:modified xsi:type="dcterms:W3CDTF">2008-12-17T04:18:01Z</dcterms:modified>
  <cp:revision>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774771033</vt:lpwstr>
  </property>
</Properties>
</file>